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8062-6393-4861-BB83-0BFED8C3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59D-43F7-4CEF-9989-65CC4F10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EB4-E64F-4179-BEE3-9B04FD1C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8A5-D904-4118-9AB1-4C3B181D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D1D17-ACB8-420C-A05D-1A8A6172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72334-48A0-493A-86EB-3C2E41ED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21B97-DA8D-4959-96CA-238A60D2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2DDD4-90A4-4E01-96A9-D7E05D90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F6096-DBBF-4D28-A239-1B194149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CA10E-540F-459D-9E78-5A1F6631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0A891-4DA8-48B2-9C71-43007EA8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38EE-83EA-4531-9F4C-2386CD71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17923-39AC-4F3B-BC66-71030628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C6BA1-0E0E-47C8-9326-8241B04B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3CBC6-3594-46AA-8D24-667CCC1E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FEAA0-DE7D-4AA9-8409-2129C04F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4B58B-0093-4B1F-864F-32BB92D8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9AC7C-BEFE-48B4-B348-F61C06B1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AAC7C-6D8B-4F20-804E-C3355F43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D0750-D100-4CA2-9993-90DAB989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66399-E758-47B8-B69E-7B8971B3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09C8C-84DA-4AEB-891F-12F02EE2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9B7-950B-408E-8CE3-F1D6EFD0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844B-232E-4418-B73F-7287E4EE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D5B79-0E54-49B3-9786-98556056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1C21B-9F46-4B8C-98C0-1510482A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D19F6-E33D-41D9-A9C7-A6279A6D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8F91C-AC1D-4394-AA9D-2514FAC2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A31B-D9FA-4067-9448-204B2FBF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269EB-31FE-47D7-9B71-48A1C708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908AE-409B-4128-B787-ED36830D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AF4FF-B682-4B14-A2ED-72E3FB89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AB45F-7E3D-477E-B547-935FBD1B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BC5-5155-47B7-8BC7-4A29937F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D0188-9B60-4115-8260-6E22EBEC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7BC82-22F1-4E99-93BD-887935B1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B6DC5-CC96-4C09-B14D-7C8AEEE4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0707B-E711-4D4A-B937-524310A0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171C4-B1AF-46A7-BB43-F465EA14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DE2EB-74A0-4834-91E6-85EB4490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D67D7-7CAD-49CE-8DB4-668C013E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6EC8D-6FBC-4B53-B6A9-D7AEE0C7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343B3-FA6F-4A37-8198-684AE83C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50B72-38CB-4EDA-AAEB-9D0AA2E1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EDA-9AFD-4105-A464-E698AF3D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C281C-2386-432B-9F14-FDC75A1E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1CCA8-9622-43E2-845C-53271E32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D9C8D-6DBA-40D7-9D8D-2ACBC0CD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0A28F-C7D0-4226-8C6A-00809B1C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B87F2-4B9B-42F6-A477-4CB1887B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8E74B-8FFF-4BB9-A04B-A6E62C1C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7E120-9D3F-4803-8BC3-26122A17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48647-CCEB-44CB-A944-92451A02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E0AF6-2C1C-405D-9029-5A86E9E3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138BB-F798-45AF-A660-4849F3C8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A2B-610A-4384-94BE-2080DAE8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B8C03-070D-4B8C-96AB-5A254F1D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9893E-F3ED-44F6-8D9B-D52709D3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0057A-E157-40D5-9831-05C2B261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92405-9CFF-42B1-80FA-B258EC86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9B34F-8B9A-462A-A364-F6E89E35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D157A-398F-45A8-ACDE-7F8FFBDE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2B74C-3FC8-4EE1-86D8-B41E83E1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FBC08-D891-4F87-A65D-C14EAFF2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B104F-1B23-4CC9-B7CB-401A203F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35F07-AA6B-4AAA-859B-24324DFA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2B1-E503-48AC-A0BE-EAFF1519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F4F24-6B2C-4694-8C26-5818D4BA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363A7-66E7-4FF8-A9EC-158B64C3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BB55E-ECCE-43AD-8240-4DB6E43F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EE1AC-5EF2-4D8F-8182-F4B96C5A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AD622-FD72-4589-B990-E82A1847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D13A4-F419-4A4C-9BB2-34C43E9C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BB26B-DE18-429B-976B-7FEB5BFD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AE3E4-831A-471F-9853-818CB513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09A51-6A01-43A7-983C-2F1A6227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C9FAE-3D72-4196-BF5A-AF91A03E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F59-8248-4DA1-A42E-3FE4DC50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5B1E9-0344-47C6-B192-620BEB48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8C5FF-EA0F-4528-A925-C869559B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D969C-D604-45BE-9856-1B1F0DAB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86E94-86F5-4B74-8FFB-F6159855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5F7EF-9948-43B3-8644-9138781D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92799-C9E2-4D20-805F-AD0F542D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16FFB-F1F4-45AE-8CDC-E42C2206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6B5FC-0FD4-4883-A6BB-C1C6930C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C8015-771F-4C7F-BC5A-51F56FE5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75C86-B6F9-449F-B0D3-59E34D42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B5E-DFDB-4F7E-ADF7-98205506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6D4DD-18DE-4FFD-A521-722EEC01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F45C2-949C-4553-9795-5B39DA5B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D6BFB-3483-44EA-AB8A-39BEC60F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C17E1-2613-44F1-BD4B-ACBE024C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88BC9-FF39-409D-8718-7A9CA6FA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11394-6697-4929-B659-F823B643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01A43-8D91-4BB1-9CF6-12DF8BA1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4626-90E6-4321-B9BD-1BA78CB2F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5EA6-9748-4E12-A97B-48E871A2E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F898-5655-4E67-B4C3-1B331F5BEB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988C-7F86-4737-A3B3-401EE191D6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3812-0EF3-4807-855E-DA807AE5BC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6700-C6E2-4E5C-8663-468B7601A0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A351-9DFB-46E1-9E49-84B06482B89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1049-2473-4024-9BC9-03D5B293404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قياس الرسم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7160" y="512928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314172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1440" y="98100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76640" y="4476600"/>
            <a:ext cx="1656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782400">
            <a:off x="7188120" y="2134800"/>
            <a:ext cx="2303640" cy="1366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184560" y="38160"/>
            <a:ext cx="336384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Imprint MT Shadow"/>
                <a:cs typeface="mohammad bold art 1"/>
              </a:rPr>
              <a:t>مقياس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1413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18920" y="1762200"/>
            <a:ext cx="3529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1012680"/>
            <a:ext cx="51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1844640"/>
            <a:ext cx="44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2349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hammad bold art 1"/>
              </a:rPr>
              <a:t>أمثل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9360" y="3151080"/>
            <a:ext cx="828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ا- رسمت منارة بمقياس رس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فكان ارتفاع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سم أوجد الارتفاع الحقيقي للمن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7680" y="444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640" y="442764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4561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47800" y="58374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3440" y="5846760"/>
            <a:ext cx="39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138640"/>
            <a:ext cx="37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3618000"/>
            <a:ext cx="914400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4280"/>
            <a:ext cx="9144000" cy="32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6021360"/>
            <a:ext cx="1439640" cy="69228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21520" y="3367080"/>
            <a:ext cx="1692360" cy="64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3520" y="5778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92840" y="20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308360" y="620640"/>
            <a:ext cx="1150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271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626920" y="620640"/>
            <a:ext cx="381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56000" y="52704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0" y="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170028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66"/>
                </a:solidFill>
                <a:latin typeface="Arial"/>
                <a:cs typeface="mohammad bold art 1"/>
              </a:rPr>
              <a:t>الطول الحقيقي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1000" y="172260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8200" y="1720800"/>
            <a:ext cx="30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42100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ت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28464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ثال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0040" y="3902040"/>
            <a:ext cx="889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قيست المسافة بين مدينتين على خارطة فكان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 وكانت المسافة الحقيقية بينهم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 اوجد مقياس رسم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59500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930920"/>
            <a:ext cx="9144000" cy="192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33880"/>
            <a:ext cx="914400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400" y="1546200"/>
            <a:ext cx="91440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520"/>
            <a:ext cx="91440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4756320"/>
            <a:ext cx="1258920" cy="792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28908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8000" y="671400"/>
            <a:ext cx="4608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-6984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على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6360" y="58896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0280" y="1527120"/>
            <a:ext cx="167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35640" y="2133720"/>
            <a:ext cx="17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6000" y="1844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92720" y="2224080"/>
            <a:ext cx="194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7480" y="189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61440" y="2224080"/>
            <a:ext cx="4140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148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57240" y="21193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76480" y="1450800"/>
            <a:ext cx="1008000" cy="64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892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7480" y="2109960"/>
            <a:ext cx="863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12000" y="357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897200" y="4005360"/>
            <a:ext cx="3528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3213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7160" y="3878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3440" y="4765680"/>
            <a:ext cx="16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مثال</a:t>
            </a: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272880" y="4699080"/>
            <a:ext cx="820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خارطة هو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: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فإذا كانت المسافة الحقيقية بين موقعين على الخارط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كم فكم تكون المسافة بينه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0520" y="4365720"/>
            <a:ext cx="9144000" cy="24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360" y="299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155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0" y="20520"/>
            <a:ext cx="914400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11640" y="743040"/>
            <a:ext cx="1800360" cy="792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42920" y="1270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على الخارطة 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68720" y="7333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32360" y="170028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مقياس الرسم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42920" y="2141640"/>
            <a:ext cx="4548240" cy="12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413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1280" y="20098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651640" y="3645000"/>
            <a:ext cx="341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8360" y="2852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4440" y="35593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3284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0" y="22410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520" y="3643200"/>
            <a:ext cx="40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673440"/>
            <a:ext cx="490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6080" y="4756320"/>
            <a:ext cx="45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5156280"/>
            <a:ext cx="485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687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5135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4360" y="6064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= 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19040" y="5549760"/>
            <a:ext cx="86425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33440" y="4425840"/>
            <a:ext cx="86421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3960" y="3213000"/>
            <a:ext cx="8642520" cy="11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620640"/>
            <a:ext cx="864252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2811600"/>
            <a:ext cx="1368360" cy="647640"/>
          </a:xfrm>
          <a:prstGeom prst="ellipse">
            <a:avLst/>
          </a:prstGeom>
          <a:solidFill>
            <a:srgbClr val="ff505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41400"/>
            <a:ext cx="4978440" cy="765000"/>
          </a:xfrm>
          <a:prstGeom prst="rect">
            <a:avLst/>
          </a:prstGeom>
          <a:solidFill>
            <a:srgbClr val="00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954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حل تدريب (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) صفح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rabic Transparent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4360" y="466560"/>
            <a:ext cx="8137440" cy="3640680"/>
            <a:chOff x="684360" y="466560"/>
            <a:chExt cx="8137440" cy="3640680"/>
          </a:xfrm>
        </p:grpSpPr>
        <p:sp>
          <p:nvSpPr>
            <p:cNvPr id="689" name=""/>
            <p:cNvSpPr/>
            <p:nvPr/>
          </p:nvSpPr>
          <p:spPr>
            <a:xfrm>
              <a:off x="684360" y="661680"/>
              <a:ext cx="81374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قياس رسم خارطة هو             ما هو بعد موقعين على هذه الخارطة إذا كانت المسافة الحقيقية بينهما هي 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1000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تر ؟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27280" y="1114200"/>
              <a:ext cx="19447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67120" y="4665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 </a:t>
              </a: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89000" y="93816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66"/>
                  </a:solidFill>
                  <a:latin typeface="Bernard MT Condensed"/>
                </a:rPr>
                <a:t>5000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851280" y="2708280"/>
            <a:ext cx="136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500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5280" y="3890880"/>
            <a:ext cx="3745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7680" y="320364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74600" y="379872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435640" y="5075280"/>
            <a:ext cx="302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27640" y="44276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6000" y="495144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7688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77720" y="50436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4303800"/>
            <a:ext cx="402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080" y="491976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64000" y="57135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39720" y="6081840"/>
            <a:ext cx="40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60339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42592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620640"/>
            <a:ext cx="828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69228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</a:rPr>
              <a:t> =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2060640"/>
            <a:ext cx="5545440" cy="4797360"/>
          </a:xfrm>
          <a:prstGeom prst="flowChartMultidocumen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350028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ernard MT Condensed"/>
              </a:rPr>
              <a:t> و إلى اللق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80960" y="48690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ernard MT Condensed"/>
              </a:rPr>
              <a:t>محمد السي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6:37:45Z</dcterms:created>
  <dc:creator>جهاز الطالب</dc:creator>
  <dc:description/>
  <dc:language>en-US</dc:language>
  <cp:lastModifiedBy>Windows XP</cp:lastModifiedBy>
  <dcterms:modified xsi:type="dcterms:W3CDTF">2007-06-16T21:55:26Z</dcterms:modified>
  <cp:revision>7</cp:revision>
  <dc:subject/>
  <dc:title>الشريحة 1</dc:title>
</cp:coreProperties>
</file>